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F9E9-EBAA-4819-B582-8EDBE86342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33B6-E0B6-4FA7-BA85-47013B2308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8E2-7E99-4067-875D-5D5FEEA4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CBC-7DD7-44F2-9488-29AF59166C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24DA-0187-4FA9-A0E4-15849115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22AD-CA28-4D13-BBB1-7A7D344779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5D1-3D5E-43C3-B0D3-FBD077CC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83F5-04D4-4092-85F8-EB319F9342C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CB5-BF94-4230-8EAB-339A1B43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80C7-77A9-4F72-ABB9-072DD38FDD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0FC-BBC5-4B2F-A925-E2227486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B99-6EA2-40A0-B733-4733348C2E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AEEE-9F98-4575-8EAA-E7E52BCD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AB7B-E04D-4306-A689-BE282EC8A05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889B-C5E7-4A45-962B-8DA5CF88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F62-6974-4394-9249-DB215CB850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4846-42EA-40BE-A78A-EE2FA6B0B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53F-F7FF-4354-9298-1D348EE90A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0B0-4568-449B-90D0-78B06400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FF8A-017F-4C78-A0A6-D32B82237D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867-7EFF-486C-8FBA-EEAD5284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4CF-CF09-4EB5-A5F6-9781893AEC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EDBA-15CF-4691-987A-4E38CB41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686C-7F83-4467-83E5-6183CD5BF6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AB1B-618A-49A4-9D9A-C645628E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8304-CC36-46AA-B24B-987C4C3B1D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359-BA78-4FF5-A741-DF6B33ED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FB2-95C1-4E1B-95E0-D4E8BD1666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8B2-CA82-4E54-A2B2-29631E55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45DC-BFBA-41C3-B99F-95187F0B65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1E4C-D217-4C10-AE67-C064BB022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23A-AB67-4D2D-871A-17ED69B732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456F-99FD-4DC4-960B-271AFDB2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15AC-A8CF-4C1E-806E-F849A0E231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25F-D77E-4A0E-9F47-989F8530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496-A127-4C05-835A-94A41018BA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483D-932C-4A63-8E5C-17657C96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A6FF-31D7-4EE2-9478-1838C2E6EC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BE7D-2BD8-4260-8358-783237D5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6D8-F2E8-4D46-ABC6-873D8FACEB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7836-8285-42BA-A7CB-7F32EBBBB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1F1-6BB0-4B79-84B5-10828F37B70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3C1C-DAF7-42B6-9ECD-45F4C214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312B-C9AD-407D-97BB-9EDFAA214C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7C9A-9D4C-4F50-8AB0-3F3AA5BD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25D-E569-4225-B0A3-7C116EDCC1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8B5-3AE0-4F6D-A3FC-82375B957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79C1-35DF-43DD-9548-938470DF5C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7A1-450D-4D10-BB02-66102FF0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1B5-2C5D-4587-8D3F-BFAFE2D097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98E5-381F-459B-B45E-62B500E9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93D-A5ED-4198-A012-F48C97D001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7B0C-0107-44A4-A32E-F9E9C8E0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934E-E5CD-4357-ABB4-BB442FB1BA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C20-1C9A-4C2B-9669-361685FCD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210-D69D-4C39-ADB6-DAC87BD62A3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533-FD08-4C91-A518-E6961C6C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2582-BAC4-4D7B-A79A-A1BCD42409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C1B-A887-4184-9861-335E0FC1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911-9B9E-4D9B-96D9-F7E75576BB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FA3-AF0F-44BB-BE0B-03E65E55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9F9-8883-487B-970F-1F55F0B60A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8A21-8F32-4AFD-866D-9A089C50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33BE-CFE9-49C7-B4BE-7896B7C180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732-59B6-4523-BDF0-33BED09F0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F16-D3A3-4AF0-9332-3E749777A1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8546-9C4D-4F53-948B-D38E85E1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165-497E-4538-AE48-3BFE5DBC52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9843-C65B-4454-B859-D89B6A497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2EFE-FACC-419C-9CE6-B541385A35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8AB-0597-4D3F-91FD-47805488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004F-8862-47B7-BB79-B970E3EBA7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4CE-465A-484C-9CBF-9A107EF2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272-8C8E-4636-BEE5-7A5ED413A5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0D99-938C-4213-A274-5918A0D1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D2A-840D-433E-A8A2-EE2076724C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19F4-87E1-4C6D-BC87-68965661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B9B1-4E45-49CF-A0A6-59A9F89CE8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C805-604D-4126-8988-2A6C3680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A99-78E7-4560-A467-C0506486CE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AB4E-AB79-47F5-9B34-A0DFA549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639-331C-460B-B4C8-40495513C2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A25-AB2C-4F2F-8E64-489819DB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9661-D880-43E1-AC8D-EB1D7259AC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F98F-3159-4034-BEC1-7849F6EB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F10-B98E-4C3E-91B8-C8E88058EC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FAAC-1AF8-4A31-BBE7-C9C2933D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98F-2DE7-4A2C-A54F-A43F74173D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A53-4902-4926-9677-5B6915D0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C2C7-C2F3-46D0-B4BD-D01C2AAC94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99A-7DCE-4966-9941-92ECBB78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8A5-26E4-46CD-8CFA-5AB32CDF36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9B7-CA81-445C-B7FA-639D5276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9D9-12A5-4EBF-9976-2151E8AF7A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BC7-55A9-49CA-9148-EDEBC2589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99A2-F5BF-4040-8A1D-FD0748422D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564-5F68-49A3-A75A-0C56B32C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207-D2EC-4840-A382-5790B16933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895-57BD-49BD-BDAD-4C866FE24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BD754-6CAE-4C06-AFCD-ED9F96DC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95DED-C1C0-42C8-9FF3-9ED6EAD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26791-AD2C-4811-A901-E0DD0BD8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A7D26-CF5B-46DB-930B-8DAF597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ED9A-C21C-4FD1-8AF2-20FC15DD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44538-6541-4112-AED4-1F2518CB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667B4-6033-43D9-BE6F-5A67FA34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9EC5-DCB9-4F7E-8127-795F88E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2C958-DCBC-4F84-8E9F-93C7990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C2F7A-A643-4B51-81DF-BEBB8CA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9F6AF-605D-46EA-B2A0-B2B2E5E4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29318-9202-4D0D-80FB-9A575592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5A5F6-C276-4573-A30C-D7446E6B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F09B8-4F86-48E8-A801-884B6400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4C9B6-CCA1-411B-AC11-FD12FA4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78327-EB57-4CBF-8075-A0E33CB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FF994-DFF2-4FAE-81D5-8CFAF3EE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3C429-E38F-4233-849D-A685E0D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11270-F3B1-48EB-BA2C-CFB4125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5097C-E84B-400C-97D3-FCF69F3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D10E3-3E6C-4DD8-8C72-8D5EEA6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9B022-08F7-443E-BF6C-8E94EFAB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52696-8BA9-4CCF-B5E1-CDC26A86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C207B-8B72-498E-9BBF-0D37D26E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B120D-B420-4633-A44B-824C8782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A4088-8C46-44D9-AF57-E0486A4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9A410-B10B-498C-BEEF-813CF00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93BE7-B036-4C7B-BB60-700C463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C14FE-3D8B-4957-BA21-3DBA9483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57779-63FE-453C-8164-CAFC83A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21F23-6472-412C-A96D-F32BCE5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6020C-3726-413C-A625-E733CD0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82A37-E925-4BD3-8798-3ECD855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75AEF-A3E3-47D5-9012-930B49A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B238B-5CC2-4813-BADB-12AB5371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5DECC-82F8-464F-9BF5-8EBE4B94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36BDC-2FE5-4FEB-BF34-A794C26A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BB139-AFD9-426A-B33A-CB1E6AB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8298F-8735-485D-8375-AA70205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E015B-B162-410F-8F59-5C80867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2DC39-0D2E-4884-954A-BF34F7EA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D75C1-D7B0-441C-A758-CA6A897B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0A397-A63B-4995-B1C0-6D1524CC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7F129-7420-4967-8CCD-CACEF048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C896B-5B3A-4611-AA90-7508FFA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37313-DF8B-4FF4-A2A8-B71B58E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68754-3118-49E6-B3E3-4F8E1491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5EB6A-AD99-4EAE-8030-AD744AE3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AFC1-A356-4231-9A80-850DF587D21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660-848D-4F1B-AABD-48A9105E3B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F30D-069F-45B2-B0DF-97ECA13EC0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2293-59AD-40B2-B992-4E076B4A79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E9F-F891-47E1-B5E4-6D1633A488F2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XML   Sch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1413000"/>
            <a:ext cx="7308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2812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una delle attività del working group su XML. Ha prodotto 7 generazioni di working draft, per poi divenire recommendation nel maggio del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viso in tre par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0: Primer (un’introdu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1: Structures (struttura del documento 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2: Datatypes (modello dei dati e meccanismi di estensione dei ti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ormato di un XML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documento di XML Schema è racchiuso in un elemento &lt;schema&gt;, e può contenere, in varia forma ed ordine, i seguenti elem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nclud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inserire, in varia forma, altri frammenti di schema da altri doc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simple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tipi denominati usabili in seg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elemen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elementi ed attrib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docu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serie di attributi e gruppi di content model complessi e denomi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notazioni non XML all’interno di un documen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n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esprimere commenti per esseri umani o per applicazioni diverse dal parser di XML Sch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ipi in 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79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usa i tipi per esprimere vincoli sul contenuto di elementi ed attribu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semplice è un tipo di dati che non può contenere markup e non può avere attributi. In pratica è una sequenza di caratteri. E' una specificazione (e restrizione) di CDATA o #PC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complesso è un tipo di dati che può contenere markup e avere attributi. E' l'equivalente di un tipo strutturato o mi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predefinisce un grande numero di tipi semplici: string, decimal, float, boolean, uriReference, date, time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tipo semplice è caratterizzato da alcune proprietà, det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ce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ne descrivono vincoli e formati (permessi ed obbligh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data possibilità di derivare nuovi tipi, sia per restrizione che per estensione di permessi ed obbligh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sempli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menti e gli attributi sono istanze di un tipo. I tipi semplici sono tipi stringa non ulteriormente strutturati, e possono essere usati per entramb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Schema non fa nessuna distinzione tra attributi ed elementi con content model te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price" type="xsd:decima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de" type="xsd: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definiti molti tipi semplici, che possono essere usati liberamente nelle definizioni. Il nome di un tipo semplice predefinito appartiene allo stesso namespace di XML Sch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derivare i tipi semplici per restrizione, unione o 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lista parziale di tipi semp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caratte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i valori  'true ' e 'false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con segno: +65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(con segno e punto): '-34.15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 reale in notazione scientifica: '12.78E-12 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stringa per una durata temporale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PnYnMnDTnHnMn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Ad esempio  'P1Y2M3DT10H30M ' è la durata di 1 anno, 2 mesi, 3 giorni, 10 ore, e 30 mi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data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CYY-MM-D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'2001-04-25 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 valore di orario nel formato hh:mm:ss con una appendice opzionale per l'indicazione del fuso orario. Es.: '13:20:00+01:00 ' significa 1:20 PM in Middle European Time (+01:0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xBinar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dati binari arbitrari in formato esadecimale: '0FB7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yU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a stringa di un URI, come "http://www.w3.org/ ". Accetta sia URI relativi che assolu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D , IDRE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senza whitespace con le stesse proprietà e vincoli di ID e IDREF nei D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zione per restri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arte da un tipo già definito e ne si restringe il set di valori leciti attraverso l'uso di fac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 type="Teditor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data" type="Tdatarecent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 Tdatarecen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a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Inclusive value="2006-01-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4376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tipo io posso precisare dei facets, delle caratteristiche indipendenti tra di loro che specificano aspetti del 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ngth, minLength, maxLength: numero richiesto, minimo e massimo di carat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Exclusive, minInclusive, maxExclusive, maxInclusive: valore massimo e minimo, inclusivo ed esclu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ision, scale: numero di cifre significative e di decimali signific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ttern: espressione regolare che il valore deve soddis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umeration: lista all’interno dei quali scegliere il valore (simile alla lista di valori leciti degli attributi nei DT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, duration, encoding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-45900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un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1640" y="765000"/>
            <a:ext cx="79437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insieme dei valori leciti è data dall'unione dei valori leciti di due tipi sempl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rezzo" typ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ecima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Exclusive value="0.0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grati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l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437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valori leciti una lista separata da virgole di valori del tipo semplice specific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impleType name="TListaDiNumeri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list itemType='xsd:integer'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ord" type="TListaDiNumeri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area coord="25,30,75,90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anonimi e tipi denomin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i tipi possono essere predefiniti (solo x tipi semplici), denominati (con una definizione esplicita, come nei casi precedenti) o anonimi (interni alla definizione di un el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4760" y="1341360"/>
            <a:ext cx="6807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i per introdurre XML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mitazione dei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oduzione di tipi ed ele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i elementi ed attrib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i aspetti rilev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72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tipi comples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ANY ed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m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unque tip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con attrib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ono tipi complessi predefiniti (o quas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rivazione può avvenire per restrizione o estens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ANY ed EMP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5760" y="1341360"/>
            <a:ext cx="7734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nything" type="xsd:an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name="emptyTypeWithAttribut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first" 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second" type="xsd:decima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2" type="emptyTypeWithAttribut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struttura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94920"/>
            <a:ext cx="784836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si usano virgole e barre per specificare obblighi e scelte tra gli elementi di un content model compl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si usano &lt;choice&gt;, &lt;sequence&gt; e &lt;all&gt;. Questi sostituiscono anche le parente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equenza (A, B,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celta (A | B |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choi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mpless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riprende l'operatore &amp; di SGML: tutti gli elementi debbono essere presenti, ma in qualunque ordine. (A &amp; B &amp; C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ll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al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B.: ci sono restrizioni: la struttura all può solo essere l'unica struttura di un tipo complesso (non posso usarla in espressioni più comple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ggruppamento non ha bisogno di parentesi: (A, ( B | C)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usano gli attributi minOccurs e max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permette non solo i valori 0, 1 e infinito, ma qualunque numero int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inito è "unbounded", e può essere usato solo per maxOccu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default entrambi valgono 1. Inoltre, minOccurs ≤ 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optional" type="x" minOccurs="0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repeat" type="x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free" type="x"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counted" type="x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2" maxOccurs="4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532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 specificare questi attributi non solo per gli elementi, ma anche per le strutture (choice, sequence, al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 esempio, (A,B,C)*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 minOccurs="0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ure, (A,(B|C)+)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choice minOccurs=”1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t model misto aggiunge semplicemente l’attributo mixed con valore “tru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lunque espressione di elementi viene rispettata, ma il PCDATA può comparire ovunque, prima o dopo questi elem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!ELEMENT para   (#PCDATA | em | strong)*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"paraContent" mixed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hoice minOccurs="0" maxOccurs="unbound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em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strong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ara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i possono fare cose più comples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review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mixed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 il #PCDATA può comparire ovunque prima e dopo questi elementi, ma questi debbono essere posti esattamente in quell'ordine e in quel num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odel con attribu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872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 tipi complessi, gli attributi vengono sempre posti alla fine del content model, in una lista aperta di elementi &lt;attribute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complesso strutturato con attribu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ELEMENT Z (A,B,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ATTLIST Z y CDATA #IMPLI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element name=“Z” type=“Tz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complexType name=“Tz”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ttribute name=“y” type=“xsd:string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n attribu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5640" y="1219320"/>
            <a:ext cx="77994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tipi semplici non possono avere attributi. Qualunque elemento preveda attributi è necessariamente di un tipo compl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differenzia allora tr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comples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a è la definizione di un tipo il cui contenuto è semplice ma che prevede un attrib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”Tprezz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xtension base="xsd:decima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attribute name="valuta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rice" type=”Tprezz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lmente si pensava che XML servisse solo per i doc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è più semplice di SGML, è più generale ed aperto di HTML, è lo strumento ideale per esprimere documenti di testo, siano essi libri, manuali o pagin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’enfasi iniziale era su internazionalizzazione, strutturazione, facilità di conversione, ecc. Raccoglieva in pieno l’eredità di SGML. Lo sviluppo di XML era difatti condotto da membri della comunità SG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re 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due modi per derivare tipi comples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restri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i limitano ulteriormente i vincoli espressi: modificando minOccurs e maxOccurs, fissando dei valori per certi elementi o attributi, o imponendo ad un elemento un sottotipo del tipo origin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est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ggiungendo al content model nuovi elementi o nuovi attributi. Attenzione: i nuovi elementi sono posti necessariamente alla fine degli alt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restrizion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94376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 deriva per restrizione imponendo maggiori vincoli sui vincoli già imposti dal tipo base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triction by subsum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rivazione per restrizion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questa non va be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element name="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-316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esten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8724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estrizione per estensione aggiunge elemen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la fi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content model prece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nuovi attributi non ci sono problemi, mentre per nuovi elementi bisogna assumere l’esistenza di una sequence tra il vecchio e il nuovo content model.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'nomecognome'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nome’ type=‘xsd:string’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minOccurs='0’ maxOccurs=’unbounded'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cognome' type=‘xsd:string’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’nomecontitolo’ 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extension base=“nomecognome”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&lt;xsd:element name='title’ minOccurs='0’ type=“xsd:string”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re elementi ed attribu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94376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gli elementi &lt;element&gt; e &lt;attribute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sono posti all’interno del tag schema sono elementi ed attribu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ossono essere root di document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menti sono usabili solo all’interno di elementi che li prevedono come ti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hanno vari attributi importa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me: il nome del tag o dell’attribu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loc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f: il nome di un elemento o attributo definito altrov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glob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ype: il nome del tipo, se non esplicitato com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Occurs, minOccurs: il numero minimo e massimo di occor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xed, default, nillable, ecc.: specificano valori fissi, di default e determinano la possibilità di elementi nul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872480" cy="46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posta all'interno del tag &lt;schema&gt;. In questo caso l'elemento o l'attributo è definito in maniera assoluta. L'elemento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c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inserita all'interno di un tag &lt;complexType&gt;. In questo caso l'elemento o l'attributo esiste solo se esiste un'istanza di quel tipo, e l'elemento non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154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all'interno di un tipo complesso fare riferimento ad un elemento globale, usando l'attributo ref invece che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chema..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librierivis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hoice maxOccurs="unbounde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libro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rivista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libro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rivista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Gruppi e gruppi di attrib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848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possibile raccogliere gli elementi e gli attributi in grup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”A”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xsd:complexTyp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group ref=”elem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attributeGroup ref=”attrs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group name=“elemA”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Group name=”attrs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p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q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attribute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l’unico posto dove mettere note e istruzioni di compilazione sono i commenti. Però i commenti sono a perdere: possono essere mangiati in qualunque fase dell’elabor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, invece, esiste un posto specifico dove mettere note ed istruzioni, l’elemento &lt;annotation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lemento &lt;annotation&gt; può contenere elementi &lt;documentation&gt; (pensati per essere letti da esseri umani) oppure elementi &lt;appInfo&gt;, pensati per essere digeriti da applicazioni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’pippo'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documentation&gt;elemento pippo&lt;/documen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 Il resto della definizi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a dichiarazione di targetNamespace definisce il namespace del documento da valid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Gli attributi elementFormDefault e attributeFormDefault permettono di controllare se l’uso del prefisso è necessario per i tipi non globali.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chema xmlns="http://www.w3.org/2000/08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xmlns:po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argetNamespace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ttributeFormDefault="un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A”   type="po:prov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C”   type="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 name=”po:prov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“B” type=“string”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ref=“C”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sce poi l’idea che XML possa servire per qualcosa di più: XML è (anche) un linguaggio di markup per trasferire dati: un meccanismo per convertire dati dal formato interno dell’applicazione ad un formato di trasporto, facile da convertire in altri formati inter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ensato per la visione umana, ma per essere prodotto ed usato da program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è un’interfaccia (Adam Bosworth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utore e lettore, attraverso XSL e XLink, per portare significato tra creatore ed 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pplicazione ed applicazione, attraverso XML Schema, per esprimere contratti sui formati, e verificarne il rispet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69608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o che i namespace permettono di fare è di specificare regole di validazione solo su alcuni e non tutti i namespace del documento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"htmlElemen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any namespace="http://www.w3.org/1999/x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nOccurs="1" maxOccurs="unbounde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Nell’attributo namespace dell’elemento &lt;any&gt; posso specificare o un namespace vero e proprio, o i valor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an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ben for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loca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non sia qualificato (cioè privo di dichiarazione di namesp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other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tranne il target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371240"/>
            <a:ext cx="7799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anche questo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ook xmlns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7872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invece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attributi elementFormDefault e attributeFormDefault controllano se gli elementi e gli attributi locali siano per default qualificati o non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efault sono NON qualificati, il che è ragionevole per gli attributi, e un po' una sorpresa per gli elementi. Si noti ad esempio che in RDF sia gli elementi che gli attributi debbono essere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endere la o la seconda versione del documento valido, dobbiamo porre elementFormDefault a qualificato, altrimenti non funziona n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920" y="1066680"/>
            <a:ext cx="78724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clusioni e importazion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6920" y="1143000"/>
            <a:ext cx="77281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esistono meccanismi per dividere lo schema in più file, o per importare definizioni appartenenti ad altri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de: Le nuove definizioni appartengono allo stesso namespace, ed è come se venissero inserite direttamente nel docu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efine: come include, le definizioni appartengono allo stesso namespace, ma possono venire ridefiniti tipi, elementi, gruppi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:  le nuove definizioni appartengono ad un altro namespace, ed è l'unico modo per fare schemi che riguardino namespace multip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rgetNamespace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:cd="http://www.w2.or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 namespace="http://www.w2.org"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schemaLocation="http://www.w2.org/s1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amespace multip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re più namespace nello stesso documento significa avere più targetName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targetNamespace (volutamente) è un attributo di xsd:schema, quindi è possibile averne al massimo u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estire più namespace è necessario separare la gestione dei namespace in più xsd:schema, ciascuno con il proprio targetNamespace, e farne un import in un unic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gli schemi coinvolti debbono però avere le dichiarazioni di namespace appropri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amespace multipl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chema 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due="http://www.sito.org/du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tre="http://www.sito.org/t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targetNamespace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elementFormDefault="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due" 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du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tre"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tr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a" type="myType"/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complexType name="myTyp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due:b" type="du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tre:c" type="tr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complexType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icità e chi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8724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è possibile richiedere che certi valori siano unici, o che certi valori siano chiavi di riferimenti, analoghi alla coppia ID/IDREF in XML “classico”. Tuttavia, è possibile specificare pattern molto complessi come elementi chi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ic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unique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author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title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uniqu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ità refer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code"/&gt;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ref name="list" refer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list/objects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re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faccenda del trasferimento dei dati si semplifica: i documenti strutturati e gerarchici sono un formato ragionevole di sintassi praticamente per qualunque cosa: documenti di testo, record di database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a W3C Note di Agosto 1999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ttp://www.w3.org/TR/schema-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Many data-oriented applications are being defined which build their own data structures on top of an XML document layer, effectively using XML documents as a transfer mechanism for structured data;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ferirsi ad uno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4376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v:pippo xmlns:fv =“http://www.fabio.org/Pippo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mlns:xsi=“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http://www.w3.org/2001/XMLSchema-in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xsi:schemaLocation=“http://www.fabio.org/pippo.xsd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v:pipp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’attributo schemaLocation dentro all’istanza del documento XML diamo un suggerimento sulla posizione dello schema al validatore (ma la stessa informazione può essere data off-line, ad esempio perché predefinita, o in un header della connessione HT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e buona for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1640" y="1294920"/>
            <a:ext cx="7583400" cy="45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buona forma di un documento XML è una proprietà puramente sintat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lidazione, viceversa, è la verifica di un impegno pres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formato, ad un livello già semant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i impegno a scrivere dei documenti che siano formati da capitoli, ciascuno con un titolo e vari paragrafi, e ogni immagine con la sua didascali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sprimere documenti di testo, i DTD probabilmente bastano, ma per esprimere blocchi di dati strutturati, è necessario un meccanismo di verifica più raffin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è stato pensato per fornire quel supporto di validazione che i DTD permettono solo parzialmente, in particolare sul contenuto degli elementi e degli attributi del documenti X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76360" y="1752120"/>
            <a:ext cx="7439040" cy="39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ul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offrono le entità parametriche per tutto: content model ripetuti, frammenti di DTD riusabili, modularizzazione delle specific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off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meccanismo di inclusioni di file(differenziato e sofisticat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tipi gerarchico e comp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specifica di frammenti riutilizzabili di content model e attribut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dei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ignorano i namespace. E' molto complesso far convivere DTD e qualifica degli elemen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permette esplicitamente di qualificare gli elementi e gli attributi, e fornisce molte funzionalità di estensione o limitazione dei vincoli sugli elementi a seconda del loro name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ncoli su elementi e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TD permettono un ragionevole controllo degli elementi strutturati, ma poca flessibilità sui content model m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non permettono vincoli sugli elementi di testo (#PCDATA e CDATA) a parte le liste di valori ne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amplia il set di vincoli per gli elementi strutturati, ed è molto più flessibile negli elementi con CM mi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permette di definire tipi semplici, ovvero di esprimere vincoli su dati di tipo stringa, in maniera completa e sofistic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azione espl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gare documentazione per esseri umani in un DTD significa inserire commenti XML dentro al DTD. Questo è limitante e fragile (i parser eliminano  i commenti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permette di inserire annotazioni in maniera esplicita e controllata, in maniera che sopravviva al par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piè di pagin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Next: XML Schema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9/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ass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TD usano una sintassi propria e particolare, che richiede parser appositi e strumenti di generazione e verifica apposi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usa XML come sintassi. Tutti gli strumenti che si usano per XML sono immediatamente utili: parser, visualizzatori, verificatori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ntro, XML Schema è estremamente più verboso, tre o quattro volte più lungo del corrispondente DTD, e molto spesso meno chiaro da legg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state molte obiezioni su questo specifico aspetto, ma TBL ha specificamente insistito per ricondurre tutto ad XML (altrimenti, che meta-sintassi sarebb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05Z</dcterms:modified>
  <cp:revision>103</cp:revision>
  <dc:subject/>
  <dc:title>Diapositiva 1</dc:title>
</cp:coreProperties>
</file>